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7.jpeg" ContentType="image/jpeg"/>
  <Override PartName="/ppt/media/image1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2DFA1-5B47-43D9-AD49-599D50AB4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D5D52-CE50-49CC-A27F-B9A72E62D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40EC8-3E0D-4909-A763-03AE937EED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70338-4BF8-4FF5-8F8F-6E49CC8F1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5B863-638E-4C2A-A1D2-594158063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41391-39DB-4703-906B-A2EEF386B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4CA92-C780-4D06-B4D1-0220F7E6A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BACC5-240C-45ED-B006-0F3E789AB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FFBC8-870B-4240-B7B8-CECE8120E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8CAF2-A2B5-4D7B-8063-8BFC996CC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E7D83-ECFB-4841-96BB-905B60808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7E5F6-9E21-4EF3-8483-4D74FBFC4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AEB52-ABCE-43B1-A565-23C94A5DD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25645-2F6B-4552-BB5B-150B23D15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06901-EE6F-4506-954F-285ED697A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39054-ED2D-4C3F-809C-638176A00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3AD2-046F-40D3-8831-4CB028052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64C2-375C-43AC-B158-2CACB3F4B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88F1-B6DD-4AB3-AE79-6FC402E25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46D1-739F-40E2-8054-20A8DCC48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7331-FA4E-4AD3-9ACD-709A0BCFF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0D61-46C5-4B2E-B550-D72D4370A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ADA2-D943-49AB-B615-264F8F84D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DE13-3F02-4F00-809B-06256CE62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E1E4-75F3-4047-8344-20ADE660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2E32-FFC5-4703-9B73-75E542F9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F9F2-CA8B-4F24-9553-90303AF6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1122-ADA9-4B7F-8182-4C2F77E3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EC461-7B7D-4E2C-A431-DC858581A1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chool.discovery.com/clipart/clip/ani-chick.html" TargetMode="External"/><Relationship Id="rId2" Type="http://schemas.openxmlformats.org/officeDocument/2006/relationships/image" Target="../media/image2.gif"/><Relationship Id="rId3" Type="http://schemas.openxmlformats.org/officeDocument/2006/relationships/hyperlink" Target="http://images.google.com/imgres?imgurl=http://www.galleryone.com/images/kouba/kouba%2520-%2520nine%2520big%2520blacks.jpg&amp;imgrefurl=http://www.galleryone.com/kouba_prints.htm&amp;h=403&amp;w=600&amp;sz=24&amp;tbnid=OT33VUEIDK8J:&amp;tbnh=89&amp;tbnw=133&amp;hl=en&amp;start=44&amp;prev=/images%3Fq%3Dnine%26start%3D40%26svnum%3D10%26hl%3Den%26lr%3D%26sa%3DN" TargetMode="External"/><Relationship Id="rId4" Type="http://schemas.openxmlformats.org/officeDocument/2006/relationships/image" Target="../media/image11.jpeg"/><Relationship Id="rId5" Type="http://schemas.openxmlformats.org/officeDocument/2006/relationships/slide" Target="slide2.xml"/><Relationship Id="rId6" Type="http://schemas.openxmlformats.org/officeDocument/2006/relationships/slide" Target="slide13.xml"/><Relationship Id="rId7" Type="http://schemas.openxmlformats.org/officeDocument/2006/relationships/slide" Target="slide12.xml"/><Relationship Id="rId8" Type="http://schemas.openxmlformats.org/officeDocument/2006/relationships/slide" Target="slide15.xml"/><Relationship Id="rId9" Type="http://schemas.openxmlformats.org/officeDocument/2006/relationships/slide" Target="slide15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school.discovery.com/clipart/clip/ani-chick.html" TargetMode="External"/><Relationship Id="rId2" Type="http://schemas.openxmlformats.org/officeDocument/2006/relationships/image" Target="../media/image2.gif"/><Relationship Id="rId3" Type="http://schemas.openxmlformats.org/officeDocument/2006/relationships/hyperlink" Target="http://www.ctio.noao.edu/~marcel/personal/OZ1/dscf1970_key.jpg" TargetMode="External"/><Relationship Id="rId4" Type="http://schemas.openxmlformats.org/officeDocument/2006/relationships/image" Target="../media/image12.jpeg"/><Relationship Id="rId5" Type="http://schemas.openxmlformats.org/officeDocument/2006/relationships/slide" Target="slide2.xml"/><Relationship Id="rId6" Type="http://schemas.openxmlformats.org/officeDocument/2006/relationships/slide" Target="slide13.xml"/><Relationship Id="rId7" Type="http://schemas.openxmlformats.org/officeDocument/2006/relationships/slide" Target="slide12.xml"/><Relationship Id="rId8" Type="http://schemas.openxmlformats.org/officeDocument/2006/relationships/slide" Target="slide15.xml"/><Relationship Id="rId9" Type="http://schemas.openxmlformats.org/officeDocument/2006/relationships/slide" Target="slide15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school.discovery.com/clipart/clip/ani-chick.html" TargetMode="External"/><Relationship Id="rId2" Type="http://schemas.openxmlformats.org/officeDocument/2006/relationships/image" Target="../media/image2.gif"/><Relationship Id="rId3" Type="http://schemas.openxmlformats.org/officeDocument/2006/relationships/slide" Target="slide2.xml"/><Relationship Id="rId4" Type="http://schemas.openxmlformats.org/officeDocument/2006/relationships/slide" Target="slide13.xml"/><Relationship Id="rId5" Type="http://schemas.openxmlformats.org/officeDocument/2006/relationships/slide" Target="slide12.xml"/><Relationship Id="rId6" Type="http://schemas.openxmlformats.org/officeDocument/2006/relationships/slide" Target="slide15.xml"/><Relationship Id="rId7" Type="http://schemas.openxmlformats.org/officeDocument/2006/relationships/slide" Target="slide15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school.discovery.com/clipart/clip/ani-chick.html" TargetMode="External"/><Relationship Id="rId2" Type="http://schemas.openxmlformats.org/officeDocument/2006/relationships/image" Target="../media/image2.gif"/><Relationship Id="rId3" Type="http://schemas.openxmlformats.org/officeDocument/2006/relationships/hyperlink" Target="http://www.typingmaster.com/general/java/bubbleapplet.asp?keys=0123456789%2F*-%2B&amp;duration=1&amp;Submit=Play+Game" TargetMode="External"/><Relationship Id="rId4" Type="http://schemas.openxmlformats.org/officeDocument/2006/relationships/image" Target="../media/image13.jpeg"/><Relationship Id="rId5" Type="http://schemas.openxmlformats.org/officeDocument/2006/relationships/slide" Target="slide2.xml"/><Relationship Id="rId6" Type="http://schemas.openxmlformats.org/officeDocument/2006/relationships/slide" Target="slide13.xml"/><Relationship Id="rId7" Type="http://schemas.openxmlformats.org/officeDocument/2006/relationships/slide" Target="slide12.xml"/><Relationship Id="rId8" Type="http://schemas.openxmlformats.org/officeDocument/2006/relationships/slide" Target="slide15.xml"/><Relationship Id="rId9" Type="http://schemas.openxmlformats.org/officeDocument/2006/relationships/slide" Target="slide15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school.discovery.com/clipart/clip/ani-chick.html" TargetMode="External"/><Relationship Id="rId2" Type="http://schemas.openxmlformats.org/officeDocument/2006/relationships/image" Target="../media/image2.gif"/><Relationship Id="rId3" Type="http://schemas.openxmlformats.org/officeDocument/2006/relationships/slide" Target="slide2.xml"/><Relationship Id="rId4" Type="http://schemas.openxmlformats.org/officeDocument/2006/relationships/slide" Target="slide13.xml"/><Relationship Id="rId5" Type="http://schemas.openxmlformats.org/officeDocument/2006/relationships/slide" Target="slide12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chool.discovery.com/clipart/clip/ani-chick.html" TargetMode="External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" Target="slide2.xml"/><Relationship Id="rId5" Type="http://schemas.openxmlformats.org/officeDocument/2006/relationships/slide" Target="slide13.xml"/><Relationship Id="rId6" Type="http://schemas.openxmlformats.org/officeDocument/2006/relationships/slide" Target="slide12.xml"/><Relationship Id="rId7" Type="http://schemas.openxmlformats.org/officeDocument/2006/relationships/slide" Target="slide15.xml"/><Relationship Id="rId8" Type="http://schemas.openxmlformats.org/officeDocument/2006/relationships/slide" Target="slide15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chool.discovery.com/clipart/clip/ani-chick.html" TargetMode="External"/><Relationship Id="rId2" Type="http://schemas.openxmlformats.org/officeDocument/2006/relationships/image" Target="../media/image2.gif"/><Relationship Id="rId3" Type="http://schemas.openxmlformats.org/officeDocument/2006/relationships/hyperlink" Target="http://images.google.com/imgres?imgurl=http://pinker.wjh.harvard.edu/photos/santa_barbara_california/images/two%2520hawks.jpg&amp;imgrefurl=http://pinker.wjh.harvard.edu/photos/santa_barbara_california/images/&amp;h=600&amp;w=926&amp;sz=27&amp;tbnid=YUt3rqrUDecJ:&amp;tbnh=94&amp;tbnw=146&amp;hl=en&amp;start=7&amp;prev=/images%3Fq%3Dtwo%26svnum%3D10%26hl%3Den%26lr%3D" TargetMode="External"/><Relationship Id="rId4" Type="http://schemas.openxmlformats.org/officeDocument/2006/relationships/image" Target="../media/image4.jpeg"/><Relationship Id="rId5" Type="http://schemas.openxmlformats.org/officeDocument/2006/relationships/slide" Target="slide2.xml"/><Relationship Id="rId6" Type="http://schemas.openxmlformats.org/officeDocument/2006/relationships/slide" Target="slide13.xml"/><Relationship Id="rId7" Type="http://schemas.openxmlformats.org/officeDocument/2006/relationships/slide" Target="slide12.xml"/><Relationship Id="rId8" Type="http://schemas.openxmlformats.org/officeDocument/2006/relationships/slide" Target="slide15.xml"/><Relationship Id="rId9" Type="http://schemas.openxmlformats.org/officeDocument/2006/relationships/slide" Target="slide15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chool.discovery.com/clipart/clip/ani-chick.html" TargetMode="External"/><Relationship Id="rId2" Type="http://schemas.openxmlformats.org/officeDocument/2006/relationships/image" Target="../media/image2.gif"/><Relationship Id="rId3" Type="http://schemas.openxmlformats.org/officeDocument/2006/relationships/hyperlink" Target="http://images.google.com/imgres?imgurl=http://www.artworksmontana.com/pages/Waddellpage/images/Chickadee%2520Three.jpg&amp;imgrefurl=http://www.artworksmontana.com/pages/Waddellpage/images/&amp;h=489&amp;w=500&amp;sz=43&amp;tbnid=rXyU6oaP274J:&amp;tbnh=124&amp;tbnw=127&amp;hl=en&amp;start=6&amp;prev=/images%3Fq%3Dthree%26svnum%3D10%26hl%3Den%26lr%3D" TargetMode="External"/><Relationship Id="rId4" Type="http://schemas.openxmlformats.org/officeDocument/2006/relationships/image" Target="../media/image5.jpeg"/><Relationship Id="rId5" Type="http://schemas.openxmlformats.org/officeDocument/2006/relationships/slide" Target="slide2.xml"/><Relationship Id="rId6" Type="http://schemas.openxmlformats.org/officeDocument/2006/relationships/slide" Target="slide13.xml"/><Relationship Id="rId7" Type="http://schemas.openxmlformats.org/officeDocument/2006/relationships/slide" Target="slide12.xml"/><Relationship Id="rId8" Type="http://schemas.openxmlformats.org/officeDocument/2006/relationships/slide" Target="slide15.xml"/><Relationship Id="rId9" Type="http://schemas.openxmlformats.org/officeDocument/2006/relationships/slide" Target="slide15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chool.discovery.com/clipart/clip/ani-chick.html" TargetMode="External"/><Relationship Id="rId2" Type="http://schemas.openxmlformats.org/officeDocument/2006/relationships/image" Target="../media/image2.gif"/><Relationship Id="rId3" Type="http://schemas.openxmlformats.org/officeDocument/2006/relationships/hyperlink" Target="http://images.google.com/imgres?imgurl=http://www.bluebirdnut.com/Four%2520eggs%25205-30copy.jpg&amp;imgrefurl=http://www.bluebirdnut.com/2003%2520Season.htm&amp;h=437&amp;w=576&amp;sz=68&amp;tbnid=j12fG15w66cJ:&amp;tbnh=100&amp;tbnw=132&amp;hl=en&amp;start=25&amp;prev=/images%3Fq%3Dfour%26start%3D20%26svnum%3D10%26hl%3Den%26lr%3D%26sa%3DN" TargetMode="External"/><Relationship Id="rId4" Type="http://schemas.openxmlformats.org/officeDocument/2006/relationships/image" Target="../media/image6.jpeg"/><Relationship Id="rId5" Type="http://schemas.openxmlformats.org/officeDocument/2006/relationships/slide" Target="slide2.xml"/><Relationship Id="rId6" Type="http://schemas.openxmlformats.org/officeDocument/2006/relationships/slide" Target="slide13.xml"/><Relationship Id="rId7" Type="http://schemas.openxmlformats.org/officeDocument/2006/relationships/slide" Target="slide12.xml"/><Relationship Id="rId8" Type="http://schemas.openxmlformats.org/officeDocument/2006/relationships/slide" Target="slide15.xml"/><Relationship Id="rId9" Type="http://schemas.openxmlformats.org/officeDocument/2006/relationships/slide" Target="slide15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chool.discovery.com/clipart/clip/ani-chick.html" TargetMode="External"/><Relationship Id="rId2" Type="http://schemas.openxmlformats.org/officeDocument/2006/relationships/image" Target="../media/image2.gif"/><Relationship Id="rId3" Type="http://schemas.openxmlformats.org/officeDocument/2006/relationships/hyperlink" Target="http://images.google.com/imgres?imgurl=http://birdsofsanibel.free.fr/images/20040411/White%2520Pelican%2520Five.jpg&amp;imgrefurl=http://birdsofsanibel.free.fr/new_page_4.htm&amp;h=400&amp;w=600&amp;sz=171&amp;tbnid=e0RfCvFJCroJ:&amp;tbnh=88&amp;tbnw=133&amp;hl=en&amp;start=21&amp;prev=/images%3Fq%3Dfive%26start%3D20%26svnum%3D10%26hl%3Den%26lr%3D%26sa%3DN" TargetMode="External"/><Relationship Id="rId4" Type="http://schemas.openxmlformats.org/officeDocument/2006/relationships/image" Target="../media/image7.jpeg"/><Relationship Id="rId5" Type="http://schemas.openxmlformats.org/officeDocument/2006/relationships/slide" Target="slide2.xml"/><Relationship Id="rId6" Type="http://schemas.openxmlformats.org/officeDocument/2006/relationships/slide" Target="slide13.xml"/><Relationship Id="rId7" Type="http://schemas.openxmlformats.org/officeDocument/2006/relationships/slide" Target="slide12.xml"/><Relationship Id="rId8" Type="http://schemas.openxmlformats.org/officeDocument/2006/relationships/slide" Target="slide15.xml"/><Relationship Id="rId9" Type="http://schemas.openxmlformats.org/officeDocument/2006/relationships/slide" Target="slide15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school.discovery.com/clipart/clip/ani-chick.html" TargetMode="External"/><Relationship Id="rId2" Type="http://schemas.openxmlformats.org/officeDocument/2006/relationships/image" Target="../media/image2.gif"/><Relationship Id="rId3" Type="http://schemas.openxmlformats.org/officeDocument/2006/relationships/hyperlink" Target="http://images.google.com/imgres?imgurl=http://www.lincsbirdclub.co.uk/image_4/barnacles_group_2.jpg&amp;imgrefurl=http://www.lincsbirdclub.co.uk/rare_birds/barnacle_geese.htm&amp;h=336&amp;w=567&amp;sz=39&amp;tbnid=IzQBgOg2Q0YJ:&amp;tbnh=77&amp;tbnw=131&amp;hl=en&amp;start=8&amp;prev=/images%3Fq%3Dsix%2Bbirds%26svnum%3D10%26hl%3Den%26lr%3D" TargetMode="External"/><Relationship Id="rId4" Type="http://schemas.openxmlformats.org/officeDocument/2006/relationships/image" Target="../media/image8.jpeg"/><Relationship Id="rId5" Type="http://schemas.openxmlformats.org/officeDocument/2006/relationships/slide" Target="slide2.xml"/><Relationship Id="rId6" Type="http://schemas.openxmlformats.org/officeDocument/2006/relationships/slide" Target="slide13.xml"/><Relationship Id="rId7" Type="http://schemas.openxmlformats.org/officeDocument/2006/relationships/slide" Target="slide12.xml"/><Relationship Id="rId8" Type="http://schemas.openxmlformats.org/officeDocument/2006/relationships/slide" Target="slide15.xml"/><Relationship Id="rId9" Type="http://schemas.openxmlformats.org/officeDocument/2006/relationships/slide" Target="slide15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chool.discovery.com/clipart/clip/ani-chick.html" TargetMode="External"/><Relationship Id="rId2" Type="http://schemas.openxmlformats.org/officeDocument/2006/relationships/image" Target="../media/image2.gif"/><Relationship Id="rId3" Type="http://schemas.openxmlformats.org/officeDocument/2006/relationships/hyperlink" Target="http://images.google.com/imgres?imgurl=http://www.pathla.com.au/img/birds-seven.jpg&amp;imgrefurl=http://www.pathla.com.au/&amp;h=264&amp;w=426&amp;sz=7&amp;tbnid=3L2oFvP7vjMJ:&amp;tbnh=75&amp;tbnw=122&amp;hl=en&amp;start=1&amp;prev=/images%3Fq%3Dseven%2Bbirds%26svnum%3D10%26hl%3Den%26lr%3D" TargetMode="External"/><Relationship Id="rId4" Type="http://schemas.openxmlformats.org/officeDocument/2006/relationships/image" Target="../media/image9.jpeg"/><Relationship Id="rId5" Type="http://schemas.openxmlformats.org/officeDocument/2006/relationships/slide" Target="slide2.xml"/><Relationship Id="rId6" Type="http://schemas.openxmlformats.org/officeDocument/2006/relationships/slide" Target="slide13.xml"/><Relationship Id="rId7" Type="http://schemas.openxmlformats.org/officeDocument/2006/relationships/slide" Target="slide12.xml"/><Relationship Id="rId8" Type="http://schemas.openxmlformats.org/officeDocument/2006/relationships/slide" Target="slide15.xml"/><Relationship Id="rId9" Type="http://schemas.openxmlformats.org/officeDocument/2006/relationships/slide" Target="slide15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chool.discovery.com/clipart/clip/ani-chick.html" TargetMode="External"/><Relationship Id="rId2" Type="http://schemas.openxmlformats.org/officeDocument/2006/relationships/image" Target="../media/image2.gif"/><Relationship Id="rId3" Type="http://schemas.openxmlformats.org/officeDocument/2006/relationships/hyperlink" Target="http://images.google.com/imgres?imgurl=http://www.ee.surrey.ac.uk/Personal/D.Jefferies/bird/eight-eggs-close-box2-040430.jpg&amp;imgrefurl=http://www.ee.surrey.ac.uk/Personal/D.Jefferies/bird/activity2004.html&amp;h=914&amp;w=1133&amp;sz=166&amp;tbnid=SajA2tqknjEJ:&amp;tbnh=121&amp;tbnw=150&amp;hl=en&amp;start=14&amp;prev=/images%3Fq%3Deight%26svnum%3D10%26hl%3Den%26lr%3D" TargetMode="External"/><Relationship Id="rId4" Type="http://schemas.openxmlformats.org/officeDocument/2006/relationships/image" Target="../media/image10.jpeg"/><Relationship Id="rId5" Type="http://schemas.openxmlformats.org/officeDocument/2006/relationships/slide" Target="slide2.xml"/><Relationship Id="rId6" Type="http://schemas.openxmlformats.org/officeDocument/2006/relationships/slide" Target="slide13.xml"/><Relationship Id="rId7" Type="http://schemas.openxmlformats.org/officeDocument/2006/relationships/slide" Target="slide12.xml"/><Relationship Id="rId8" Type="http://schemas.openxmlformats.org/officeDocument/2006/relationships/slide" Target="slide15.xml"/><Relationship Id="rId9" Type="http://schemas.openxmlformats.org/officeDocument/2006/relationships/slide" Target="slide15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Fun with Number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 Kindergarten Mathematics  Web Qu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chalk"/>
          <p:cNvPicPr/>
          <p:nvPr/>
        </p:nvPicPr>
        <p:blipFill>
          <a:blip r:embed="rId1"/>
          <a:stretch/>
        </p:blipFill>
        <p:spPr>
          <a:xfrm>
            <a:off x="3429000" y="4114800"/>
            <a:ext cx="190512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2819520" y="2819520"/>
            <a:ext cx="4572000" cy="33526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br>
              <a:rPr sz="18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umbers Can B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14240" y="1676520"/>
            <a:ext cx="61722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we really look, we can see numbers every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jumping chi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0120" y="4876920"/>
            <a:ext cx="857160" cy="10285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6"/>
          <p:cNvSpPr/>
          <p:nvPr/>
        </p:nvSpPr>
        <p:spPr>
          <a:xfrm>
            <a:off x="0" y="0"/>
            <a:ext cx="2286000" cy="685800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WordArt 8"/>
          <p:cNvSpPr txBox="1"/>
          <p:nvPr/>
        </p:nvSpPr>
        <p:spPr>
          <a:xfrm>
            <a:off x="3352680" y="3048120"/>
            <a:ext cx="1295640" cy="13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9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0" name="Picture 11" descr="kouba%2520-%2520nine%2520big%2520black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57800" y="4646520"/>
            <a:ext cx="1724040" cy="11541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2"/>
          <p:cNvSpPr/>
          <p:nvPr/>
        </p:nvSpPr>
        <p:spPr>
          <a:xfrm>
            <a:off x="380880" y="533520"/>
            <a:ext cx="1600200" cy="31114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5" action="ppaction://hlinksldjump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6" action="ppaction://hlinksldjump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7" action="ppaction://hlinksldjump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8" action="ppaction://hlinksldjump"/>
              </a:rPr>
              <a:t>Evaluatio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9" action="ppaction://hlinksldjump"/>
              </a:rPr>
              <a:t>and Conclus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acher’s P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2819520" y="2819520"/>
            <a:ext cx="4572000" cy="33526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br>
              <a:rPr sz="18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umbers Can B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14240" y="1676520"/>
            <a:ext cx="61722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we really look, we can see numbers every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jumping chi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0120" y="4876920"/>
            <a:ext cx="857160" cy="10285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6"/>
          <p:cNvSpPr/>
          <p:nvPr/>
        </p:nvSpPr>
        <p:spPr>
          <a:xfrm>
            <a:off x="0" y="0"/>
            <a:ext cx="2286000" cy="685800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WordArt 8"/>
          <p:cNvSpPr txBox="1"/>
          <p:nvPr/>
        </p:nvSpPr>
        <p:spPr>
          <a:xfrm>
            <a:off x="3352680" y="3048120"/>
            <a:ext cx="1295640" cy="13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10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8" name="Picture 11" descr="dscf1970_ke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00600" y="4267080"/>
            <a:ext cx="2162160" cy="16178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2"/>
          <p:cNvSpPr/>
          <p:nvPr/>
        </p:nvSpPr>
        <p:spPr>
          <a:xfrm>
            <a:off x="304920" y="533520"/>
            <a:ext cx="1600200" cy="31114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5" action="ppaction://hlinksldjump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6" action="ppaction://hlinksldjump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7" action="ppaction://hlinksldjump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8" action="ppaction://hlinksldjump"/>
              </a:rPr>
              <a:t>Evaluatio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9" action="ppaction://hlinksldjump"/>
              </a:rPr>
              <a:t>and Conclus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acher’s P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cess</a:t>
            </a:r>
            <a:br>
              <a:rPr sz="18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’m Counting on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jumping chi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0120" y="5105520"/>
            <a:ext cx="857160" cy="102852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5"/>
          <p:cNvSpPr/>
          <p:nvPr/>
        </p:nvSpPr>
        <p:spPr>
          <a:xfrm>
            <a:off x="0" y="0"/>
            <a:ext cx="2286000" cy="685800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WordArt 7"/>
          <p:cNvSpPr txBox="1"/>
          <p:nvPr/>
        </p:nvSpPr>
        <p:spPr>
          <a:xfrm>
            <a:off x="2514600" y="1447920"/>
            <a:ext cx="990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1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3657600" y="152388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yping Your Numb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WordArt 9"/>
          <p:cNvSpPr txBox="1"/>
          <p:nvPr/>
        </p:nvSpPr>
        <p:spPr>
          <a:xfrm>
            <a:off x="2895480" y="2590920"/>
            <a:ext cx="609840" cy="85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2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6" name="WordArt 10"/>
          <p:cNvSpPr txBox="1"/>
          <p:nvPr/>
        </p:nvSpPr>
        <p:spPr>
          <a:xfrm>
            <a:off x="2743200" y="4038480"/>
            <a:ext cx="762120" cy="77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3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3809880" y="274320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actice Makes Perfe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3733920" y="4114800"/>
            <a:ext cx="472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aring What You Know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380880" y="533520"/>
            <a:ext cx="1600200" cy="31114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3" action="ppaction://hlinksldjump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4" action="ppaction://hlinksldjump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5" action="ppaction://hlinksldjump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6" action="ppaction://hlinksldjump"/>
              </a:rPr>
              <a:t>Evaluatio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7" action="ppaction://hlinksldjump"/>
              </a:rPr>
              <a:t>and Conclus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acher’s P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ask</a:t>
            </a:r>
            <a:br>
              <a:rPr sz="18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ng Your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14240" y="1676520"/>
            <a:ext cx="61722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on the numbers belo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on 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ype each number as you se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jumping chi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0120" y="4876920"/>
            <a:ext cx="857160" cy="10285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5"/>
          <p:cNvSpPr/>
          <p:nvPr/>
        </p:nvSpPr>
        <p:spPr>
          <a:xfrm>
            <a:off x="0" y="0"/>
            <a:ext cx="2286000" cy="685800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4" name="Picture 10" descr="lil%2520number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00600" y="3886200"/>
            <a:ext cx="1324080" cy="108576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11"/>
          <p:cNvSpPr/>
          <p:nvPr/>
        </p:nvSpPr>
        <p:spPr>
          <a:xfrm>
            <a:off x="380880" y="533520"/>
            <a:ext cx="1600200" cy="31114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5" action="ppaction://hlinksldjump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6" action="ppaction://hlinksldjump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7" action="ppaction://hlinksldjump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8" action="ppaction://hlinksldjump"/>
              </a:rPr>
              <a:t>Evaluatio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9" action="ppaction://hlinksldjump"/>
              </a:rPr>
              <a:t>and Conclus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acher’s P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ask</a:t>
            </a:r>
            <a:br>
              <a:rPr sz="16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ractice Makes Perf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14240" y="1676520"/>
            <a:ext cx="61722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each of the numbers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 the game for each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jumping chi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4267080"/>
            <a:ext cx="857160" cy="102888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5"/>
          <p:cNvSpPr/>
          <p:nvPr/>
        </p:nvSpPr>
        <p:spPr>
          <a:xfrm>
            <a:off x="0" y="0"/>
            <a:ext cx="2286000" cy="685800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WordArt 7"/>
          <p:cNvSpPr txBox="1"/>
          <p:nvPr/>
        </p:nvSpPr>
        <p:spPr>
          <a:xfrm>
            <a:off x="3048120" y="5410080"/>
            <a:ext cx="990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5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1" name="WordArt 8"/>
          <p:cNvSpPr txBox="1"/>
          <p:nvPr/>
        </p:nvSpPr>
        <p:spPr>
          <a:xfrm>
            <a:off x="6477120" y="5486400"/>
            <a:ext cx="990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7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2" name="WordArt 9"/>
          <p:cNvSpPr txBox="1"/>
          <p:nvPr/>
        </p:nvSpPr>
        <p:spPr>
          <a:xfrm>
            <a:off x="7238880" y="4343400"/>
            <a:ext cx="990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4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3" name="WordArt 10"/>
          <p:cNvSpPr txBox="1"/>
          <p:nvPr/>
        </p:nvSpPr>
        <p:spPr>
          <a:xfrm>
            <a:off x="2819520" y="4114800"/>
            <a:ext cx="990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1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4" name="WordArt 11"/>
          <p:cNvSpPr txBox="1"/>
          <p:nvPr/>
        </p:nvSpPr>
        <p:spPr>
          <a:xfrm>
            <a:off x="4343400" y="4191120"/>
            <a:ext cx="990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2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5" name="WordArt 12"/>
          <p:cNvSpPr txBox="1"/>
          <p:nvPr/>
        </p:nvSpPr>
        <p:spPr>
          <a:xfrm>
            <a:off x="5867280" y="4038480"/>
            <a:ext cx="990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3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6" name="WordArt 13"/>
          <p:cNvSpPr txBox="1"/>
          <p:nvPr/>
        </p:nvSpPr>
        <p:spPr>
          <a:xfrm>
            <a:off x="4724280" y="5715000"/>
            <a:ext cx="990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6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457200" y="457200"/>
            <a:ext cx="1600200" cy="33858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3" action="ppaction://hlinksldjump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4" action="ppaction://hlinksldjump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5" action="ppaction://hlinksldjump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valuatio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nd Conclus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acher’s P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5"/>
          <p:cNvSpPr/>
          <p:nvPr/>
        </p:nvSpPr>
        <p:spPr>
          <a:xfrm>
            <a:off x="0" y="0"/>
            <a:ext cx="2286000" cy="685800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70572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valuation and Conclusion</a:t>
            </a:r>
            <a:br>
              <a:rPr sz="1400"/>
            </a:br>
            <a:br>
              <a:rPr sz="1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haring What You Know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514240" y="1676520"/>
            <a:ext cx="61722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hare what you have learned, you will now make a number b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age of your book should have a number from one to 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age should have a picture that illustrates th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will share your books with the class and with your family on family n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jumping chick"/>
          <p:cNvPicPr/>
          <p:nvPr/>
        </p:nvPicPr>
        <p:blipFill>
          <a:blip r:embed="rId1"/>
          <a:stretch/>
        </p:blipFill>
        <p:spPr>
          <a:xfrm>
            <a:off x="533520" y="4191120"/>
            <a:ext cx="857160" cy="10285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7"/>
          <p:cNvSpPr/>
          <p:nvPr/>
        </p:nvSpPr>
        <p:spPr>
          <a:xfrm>
            <a:off x="380880" y="457200"/>
            <a:ext cx="1600200" cy="33858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valuatio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nd Conclus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acher’s P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0" y="0"/>
            <a:ext cx="2286000" cy="685800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2819520" y="2819520"/>
            <a:ext cx="4572000" cy="33526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br>
              <a:rPr sz="18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umbers Can B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14240" y="1676520"/>
            <a:ext cx="61722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we really look, we can see numbers every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jumping chi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0120" y="4876920"/>
            <a:ext cx="857160" cy="1028520"/>
          </a:xfrm>
          <a:prstGeom prst="rect">
            <a:avLst/>
          </a:prstGeom>
          <a:ln w="0">
            <a:noFill/>
          </a:ln>
        </p:spPr>
      </p:pic>
      <p:sp>
        <p:nvSpPr>
          <p:cNvPr id="55" name="WordArt 9"/>
          <p:cNvSpPr txBox="1"/>
          <p:nvPr/>
        </p:nvSpPr>
        <p:spPr>
          <a:xfrm>
            <a:off x="3352680" y="3048120"/>
            <a:ext cx="1295640" cy="13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1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6" name="Picture 11" descr="VGKILAJHUIAJDGX"/>
          <p:cNvPicPr/>
          <p:nvPr/>
        </p:nvPicPr>
        <p:blipFill>
          <a:blip r:embed="rId3"/>
          <a:stretch/>
        </p:blipFill>
        <p:spPr>
          <a:xfrm>
            <a:off x="4724280" y="4572000"/>
            <a:ext cx="2438640" cy="14065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7"/>
          <p:cNvSpPr/>
          <p:nvPr/>
        </p:nvSpPr>
        <p:spPr>
          <a:xfrm>
            <a:off x="228600" y="380880"/>
            <a:ext cx="1600200" cy="31114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4" action="ppaction://hlinksldjump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5" action="ppaction://hlinksldjump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6" action="ppaction://hlinksldjump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7" action="ppaction://hlinksldjump"/>
              </a:rPr>
              <a:t>Evaluatio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8" action="ppaction://hlinksldjump"/>
              </a:rPr>
              <a:t>and Conclus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acher’s P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0"/>
          <p:cNvSpPr/>
          <p:nvPr/>
        </p:nvSpPr>
        <p:spPr>
          <a:xfrm>
            <a:off x="2819520" y="2819520"/>
            <a:ext cx="4572000" cy="33526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br>
              <a:rPr sz="18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umbers Can B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14240" y="1676520"/>
            <a:ext cx="61722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we really look, we can see numbers every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jumping chi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0120" y="4876920"/>
            <a:ext cx="857160" cy="10285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6"/>
          <p:cNvSpPr/>
          <p:nvPr/>
        </p:nvSpPr>
        <p:spPr>
          <a:xfrm>
            <a:off x="0" y="0"/>
            <a:ext cx="2286000" cy="685800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" name="Picture 9" descr="two%2520hawk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76920" y="4343400"/>
            <a:ext cx="2152440" cy="1386000"/>
          </a:xfrm>
          <a:prstGeom prst="rect">
            <a:avLst/>
          </a:prstGeom>
          <a:ln w="0">
            <a:noFill/>
          </a:ln>
        </p:spPr>
      </p:pic>
      <p:sp>
        <p:nvSpPr>
          <p:cNvPr id="64" name="WordArt 12"/>
          <p:cNvSpPr txBox="1"/>
          <p:nvPr/>
        </p:nvSpPr>
        <p:spPr>
          <a:xfrm>
            <a:off x="3352680" y="3048120"/>
            <a:ext cx="1295640" cy="13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2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380880" y="533520"/>
            <a:ext cx="1600200" cy="31114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5" action="ppaction://hlinksldjump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6" action="ppaction://hlinksldjump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7" action="ppaction://hlinksldjump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8" action="ppaction://hlinksldjump"/>
              </a:rPr>
              <a:t>Evaluatio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9" action="ppaction://hlinksldjump"/>
              </a:rPr>
              <a:t>and Conclus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acher’s P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2819520" y="2819520"/>
            <a:ext cx="4572000" cy="33526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br>
              <a:rPr sz="18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umbers Can B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14240" y="1676520"/>
            <a:ext cx="61722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we really look, we can see numbers every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jumping chi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0120" y="4876920"/>
            <a:ext cx="857160" cy="10285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6"/>
          <p:cNvSpPr/>
          <p:nvPr/>
        </p:nvSpPr>
        <p:spPr>
          <a:xfrm>
            <a:off x="0" y="0"/>
            <a:ext cx="2286000" cy="685800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WordArt 8"/>
          <p:cNvSpPr txBox="1"/>
          <p:nvPr/>
        </p:nvSpPr>
        <p:spPr>
          <a:xfrm>
            <a:off x="3352680" y="3048120"/>
            <a:ext cx="1295640" cy="13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3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2" name="Picture 11" descr="Chickadee%2520Thre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57800" y="4275000"/>
            <a:ext cx="1514520" cy="14781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2"/>
          <p:cNvSpPr/>
          <p:nvPr/>
        </p:nvSpPr>
        <p:spPr>
          <a:xfrm>
            <a:off x="380880" y="533520"/>
            <a:ext cx="1600200" cy="31114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5" action="ppaction://hlinksldjump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6" action="ppaction://hlinksldjump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7" action="ppaction://hlinksldjump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8" action="ppaction://hlinksldjump"/>
              </a:rPr>
              <a:t>Evaluatio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9" action="ppaction://hlinksldjump"/>
              </a:rPr>
              <a:t>and Conclus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acher’s P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2819520" y="2819520"/>
            <a:ext cx="4572000" cy="33526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br>
              <a:rPr sz="18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umbers Can B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14240" y="1676520"/>
            <a:ext cx="61722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we really look, we can see numbers every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jumping chi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0120" y="4876920"/>
            <a:ext cx="857160" cy="10285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6"/>
          <p:cNvSpPr/>
          <p:nvPr/>
        </p:nvSpPr>
        <p:spPr>
          <a:xfrm>
            <a:off x="0" y="0"/>
            <a:ext cx="2286000" cy="685800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WordArt 8"/>
          <p:cNvSpPr txBox="1"/>
          <p:nvPr/>
        </p:nvSpPr>
        <p:spPr>
          <a:xfrm>
            <a:off x="3352680" y="3048120"/>
            <a:ext cx="1295640" cy="13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4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0" name="Picture 11" descr="Four%2520eggs%25205-30cop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05520" y="4343400"/>
            <a:ext cx="1981080" cy="15001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2"/>
          <p:cNvSpPr/>
          <p:nvPr/>
        </p:nvSpPr>
        <p:spPr>
          <a:xfrm>
            <a:off x="380880" y="533520"/>
            <a:ext cx="1600200" cy="31114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5" action="ppaction://hlinksldjump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6" action="ppaction://hlinksldjump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7" action="ppaction://hlinksldjump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8" action="ppaction://hlinksldjump"/>
              </a:rPr>
              <a:t>Evaluatio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9" action="ppaction://hlinksldjump"/>
              </a:rPr>
              <a:t>and Conclus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acher’s P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2819520" y="2819520"/>
            <a:ext cx="4572000" cy="33526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br>
              <a:rPr sz="18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umbers Can B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14240" y="1676520"/>
            <a:ext cx="61722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we really look, we can see numbers every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jumping chi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0120" y="4876920"/>
            <a:ext cx="857160" cy="102852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6"/>
          <p:cNvSpPr/>
          <p:nvPr/>
        </p:nvSpPr>
        <p:spPr>
          <a:xfrm>
            <a:off x="0" y="0"/>
            <a:ext cx="2286000" cy="685800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WordArt 8"/>
          <p:cNvSpPr txBox="1"/>
          <p:nvPr/>
        </p:nvSpPr>
        <p:spPr>
          <a:xfrm>
            <a:off x="3352680" y="3048120"/>
            <a:ext cx="1295640" cy="13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5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8" name="Picture 11" descr="White%2520Pelican%2520Fiv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05520" y="4648320"/>
            <a:ext cx="1876320" cy="12412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2"/>
          <p:cNvSpPr/>
          <p:nvPr/>
        </p:nvSpPr>
        <p:spPr>
          <a:xfrm>
            <a:off x="380880" y="533520"/>
            <a:ext cx="1600200" cy="31114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5" action="ppaction://hlinksldjump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6" action="ppaction://hlinksldjump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7" action="ppaction://hlinksldjump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8" action="ppaction://hlinksldjump"/>
              </a:rPr>
              <a:t>Evaluatio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9" action="ppaction://hlinksldjump"/>
              </a:rPr>
              <a:t>and Conclus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acher’s P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2819520" y="2819520"/>
            <a:ext cx="4572000" cy="33526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br>
              <a:rPr sz="18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umbers Can B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14240" y="1676520"/>
            <a:ext cx="61722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we really look, we can see numbers every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jumping chi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0120" y="4876920"/>
            <a:ext cx="857160" cy="10285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6"/>
          <p:cNvSpPr/>
          <p:nvPr/>
        </p:nvSpPr>
        <p:spPr>
          <a:xfrm>
            <a:off x="0" y="0"/>
            <a:ext cx="2286000" cy="685800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WordArt 8"/>
          <p:cNvSpPr txBox="1"/>
          <p:nvPr/>
        </p:nvSpPr>
        <p:spPr>
          <a:xfrm>
            <a:off x="3352680" y="3048120"/>
            <a:ext cx="1295640" cy="13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6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6" name="Picture 13" descr="barnacles_group_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8320" y="4389480"/>
            <a:ext cx="2466720" cy="14493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4"/>
          <p:cNvSpPr/>
          <p:nvPr/>
        </p:nvSpPr>
        <p:spPr>
          <a:xfrm>
            <a:off x="380880" y="533520"/>
            <a:ext cx="1600200" cy="31114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5" action="ppaction://hlinksldjump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6" action="ppaction://hlinksldjump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7" action="ppaction://hlinksldjump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8" action="ppaction://hlinksldjump"/>
              </a:rPr>
              <a:t>Evaluatio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9" action="ppaction://hlinksldjump"/>
              </a:rPr>
              <a:t>and Conclus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acher’s P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2819520" y="2819520"/>
            <a:ext cx="4572000" cy="33526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br>
              <a:rPr sz="18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umbers Can B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14240" y="1676520"/>
            <a:ext cx="61722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we really look, we can see numbers every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jumping chi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0120" y="4876920"/>
            <a:ext cx="857160" cy="10285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6"/>
          <p:cNvSpPr/>
          <p:nvPr/>
        </p:nvSpPr>
        <p:spPr>
          <a:xfrm>
            <a:off x="0" y="0"/>
            <a:ext cx="2286000" cy="685800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WordArt 8"/>
          <p:cNvSpPr txBox="1"/>
          <p:nvPr/>
        </p:nvSpPr>
        <p:spPr>
          <a:xfrm>
            <a:off x="3352680" y="3048120"/>
            <a:ext cx="1295640" cy="13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7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4" name="Picture 13" descr="birds-seve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19720" y="4319640"/>
            <a:ext cx="2743200" cy="16873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4"/>
          <p:cNvSpPr/>
          <p:nvPr/>
        </p:nvSpPr>
        <p:spPr>
          <a:xfrm>
            <a:off x="380880" y="533520"/>
            <a:ext cx="1600200" cy="31114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5" action="ppaction://hlinksldjump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6" action="ppaction://hlinksldjump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7" action="ppaction://hlinksldjump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8" action="ppaction://hlinksldjump"/>
              </a:rPr>
              <a:t>Evaluatio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9" action="ppaction://hlinksldjump"/>
              </a:rPr>
              <a:t>and Conclus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acher’s P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2819520" y="2819520"/>
            <a:ext cx="4572000" cy="33526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br>
              <a:rPr sz="18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umbers Can B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14240" y="1676520"/>
            <a:ext cx="61722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we really look, we can see numbers every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jumping chi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0120" y="4876920"/>
            <a:ext cx="857160" cy="10285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6"/>
          <p:cNvSpPr/>
          <p:nvPr/>
        </p:nvSpPr>
        <p:spPr>
          <a:xfrm>
            <a:off x="0" y="0"/>
            <a:ext cx="2286000" cy="685800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WordArt 8"/>
          <p:cNvSpPr txBox="1"/>
          <p:nvPr/>
        </p:nvSpPr>
        <p:spPr>
          <a:xfrm>
            <a:off x="3352680" y="3048120"/>
            <a:ext cx="1295640" cy="13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8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2" name="Picture 11" descr="eight-eggs-close-box2-04043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05520" y="4343400"/>
            <a:ext cx="1885680" cy="1521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2"/>
          <p:cNvSpPr/>
          <p:nvPr/>
        </p:nvSpPr>
        <p:spPr>
          <a:xfrm>
            <a:off x="380880" y="533520"/>
            <a:ext cx="1600200" cy="31114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5" action="ppaction://hlinksldjump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6" action="ppaction://hlinksldjump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7" action="ppaction://hlinksldjump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8" action="ppaction://hlinksldjump"/>
              </a:rPr>
              <a:t>Evaluatio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9" action="ppaction://hlinksldjump"/>
              </a:rPr>
              <a:t>and Conclus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acher’s P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6:00:12Z</dcterms:created>
  <dc:creator>Perri Applegate</dc:creator>
  <dc:description/>
  <dc:language>en-US</dc:language>
  <cp:lastModifiedBy>Lorenz</cp:lastModifiedBy>
  <dcterms:modified xsi:type="dcterms:W3CDTF">2010-01-04T02:55:42Z</dcterms:modified>
  <cp:revision>9</cp:revision>
  <dc:subject/>
  <dc:title>Fun with Numbers A Kindergarten Mathematics  WebQuest</dc:title>
</cp:coreProperties>
</file>